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53D-B2C4-4D51-9BCF-AEA39D14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0CF-899F-4E50-8479-AB55B14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76B-7F3A-498B-8B74-5300DB5E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4A9-8A62-4C78-97C4-CA6E4D17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A47-1F73-461C-8F7F-6BB93B0D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4163-B60E-49F5-BC1D-AB0D04B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5ECF-AA93-4D17-8898-C7E726B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E77-F9C4-443B-B5F2-6B6BD146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696-57CA-46A7-A8E7-78DB2C63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A258-BAD1-4803-A9F5-B50E185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0F70-7CD9-480C-BAC6-1C11BD6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534-DBE6-4ED8-9169-20F04D0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EBE2-AFED-46EC-B1AC-F613EF2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F08-27DC-411E-A2C3-1F8360D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B619-9468-4C4D-BE12-C13A8E7C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F3E8-49A5-47B5-8313-342C9BE8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0455-4E67-403B-8E83-F456426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CD6-CE66-44F1-BAAF-C87C0B04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F22-3F77-40EA-BBC9-ADC79CD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2FA-A610-4852-A382-699089E1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1A4-0F90-41C9-9628-6573A3DE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149-9D6F-4517-90A9-D8F512E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78D-CDAE-4D8F-855A-212A827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A5B-43C7-4325-9A8B-AEC060F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7AB-6131-4047-A2D7-F8854857D92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28A0-28D4-4EAA-B067-6FE58045491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ALTE ROMANE  REALISTE INTERBELICE</a:t>
            </a:r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836360" y="4021200"/>
            <a:ext cx="57452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900"/>
            </a:b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9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2f1311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3</cp:lastModifiedBy>
  <dcterms:modified xsi:type="dcterms:W3CDTF">2012-06-19T11:30:32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